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8EF5B-7D7F-4F52-BA18-8B75B2A520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853A5-6FC3-4A8E-B0D7-900D554E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0B43E-4B36-4E87-A89B-5D741043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D1F57-56DE-446D-AA8E-978774678F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89807-E145-4C4F-8E51-543B56DC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3C031-F514-47B1-8F71-9CE8589E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7C7EF-BC76-49C7-9FE5-49BA4E73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17F1F-412C-492F-9949-78235A436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CE4AC-2311-404F-8480-2E9EEA819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D7D61-CCDB-4E7C-B579-39C0FEBF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6EDC1-D3F9-44A2-947B-46779656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1B1C9-714C-4FF8-82BD-4C7613A4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968E-EB9D-4725-A886-8ED05020232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道感染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367280" y="507204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003320" y="2349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道感染病毒是指主要经消化道传播的病毒，包括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科的肠道病毒属和引起急性胃肠炎的相关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41160" y="237024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科的肠道病毒属共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；小球型，无包膜；衣壳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强，但对热、干燥、紫外线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数肠道病毒感染细胞出现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，多引起隐性感染，有病毒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病多原、一原多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2627280" y="14032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肠道病毒种类与特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41160" y="1844280"/>
            <a:ext cx="8034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的病原体，大多数人为隐性感染，少数出现中枢神经系统症状，又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儿麻痹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两次病毒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前角运动神经元受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可获得对同型病毒牢固的免疫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减毒活疫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2987640" y="1125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病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14240" y="1223640"/>
            <a:ext cx="80344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柯萨奇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为隐性或轻型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无菌性脑膜炎、出疹性疾病、急性心肌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同型免疫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埃可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与柯萨奇病毒类似的神经系统和呼吸系统病变、手足口病以及婴幼儿腹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8-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可引起脑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9640" y="2491920"/>
            <a:ext cx="79200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胃肠炎是人类常见病，主要表现为腹泻。可引起急性胃肠炎的重要病毒种类有：轮状病毒、肠道腺病毒、诺瓦克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急性胃肠炎病毒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轮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00000" y="1267920"/>
            <a:ext cx="7632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基因组分节段；球型，无包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层衣壳，内衣壳形如车轮辐条，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急性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体液免疫为主，同型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应及时补液，纠正电解质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杯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58920" y="2565360"/>
            <a:ext cx="691344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；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通过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引起较大年龄儿童和成人急性胃肠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的共同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病毒的致病特点和免疫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人类病毒性急性胃肠炎的病毒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正版用户</cp:lastModifiedBy>
  <dcterms:modified xsi:type="dcterms:W3CDTF">2014-05-26T01:40:52Z</dcterms:modified>
  <cp:revision>141</cp:revision>
  <dc:subject/>
  <dc:title>内科护理学</dc:title>
</cp:coreProperties>
</file>